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670-4EFA-41C4-8D1E-52670547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DCB-1FF8-4083-986B-37ADD9B0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7E8-922A-483B-989A-121753D7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A78-29DF-4421-8A3D-58190665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27E-7A05-4500-90C0-B8970299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492-466A-432D-BA67-C4DB4C85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299-4344-4E9A-991F-BD2BE2C5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20C-2BBE-4050-A7E1-B32FF081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42B-2554-42A4-8DEE-7A7A0415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768-9F78-468F-89C6-E7DA4AB7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A0C-E84D-4341-8BFF-E82B41E9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A18-C188-49DA-B736-C647FDCB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2A9C-AB65-4B64-990F-DBF6DFC465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сский портрет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ы к уроку МХК в 11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1160" y="981000"/>
            <a:ext cx="812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ексей Петрович Антр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1716 – 1795г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можно назвать прозаико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вои модели он смотрит трезвым взгл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душного худ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удавались образы знатных стару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живописью допетровской Р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 конкретные, объективные образ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, что модель хочет открыть зрит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942160" y="0"/>
            <a:ext cx="3201840" cy="421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08000" y="2209680"/>
            <a:ext cx="356220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2987640" y="0"/>
            <a:ext cx="2944800" cy="39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3419640" y="233352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[IS7IR_4-35]_[PD_04-r]"/>
          <p:cNvPicPr/>
          <p:nvPr/>
        </p:nvPicPr>
        <p:blipFill>
          <a:blip r:embed="rId1"/>
          <a:stretch/>
        </p:blipFill>
        <p:spPr>
          <a:xfrm>
            <a:off x="2990880" y="1047600"/>
            <a:ext cx="3162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04080" y="981000"/>
            <a:ext cx="76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ван Петрович Аргу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27 -180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ой графов Шеремете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первых стал изображ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просто, почти будн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моделей свободно разверну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более объемны и самостоя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2708280"/>
            <a:ext cx="2922480" cy="385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027600" cy="391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2916360" y="0"/>
            <a:ext cx="309240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4"/>
          <a:stretch/>
        </p:blipFill>
        <p:spPr>
          <a:xfrm>
            <a:off x="2916360" y="2744640"/>
            <a:ext cx="3070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904040" y="1700280"/>
            <a:ext cx="533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котов Федор Степ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08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ич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хотво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каза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и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52840" cy="47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869000" y="692280"/>
            <a:ext cx="3689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959120" y="469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20240" y="830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митрий Григорьевич Левиц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2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В передаче интимного, неуловим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арования лица, не блещущего красот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выделяющегося оригинальность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изображении простого, средне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заметного лиц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ерников он не зн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4222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647600" y="544500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вицкий Д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Екатерины Нели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616400" y="2205000"/>
            <a:ext cx="601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ладимир Лукич Борови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57-1825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4320" y="1197000"/>
            <a:ext cx="770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ортрет 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единственная область живописи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 которой Россия … временам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шла в уровень с Европ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09920" cy="4181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508720" y="0"/>
            <a:ext cx="34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50396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152680" y="4197240"/>
            <a:ext cx="400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ровиковский В.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ександра Борисович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а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3800" y="549360"/>
            <a:ext cx="8553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 – от парсуны – к портрет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парсуны еще тесно связ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радициями иконописных изображе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их чувствуется застылость, иде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влеченность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одство с изображаемым человеком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тельное условие. «…яково бо что вид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… слышит тако и в образах рек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ицах начертыва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[IS7IR_16]_[PD_14-u]"/>
          <p:cNvPicPr/>
          <p:nvPr/>
        </p:nvPicPr>
        <p:blipFill>
          <a:blip r:embed="rId1"/>
          <a:stretch/>
        </p:blipFill>
        <p:spPr>
          <a:xfrm>
            <a:off x="3419640" y="3213000"/>
            <a:ext cx="262872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[IS7IR_1-09]_[PD_05-r]"/>
          <p:cNvPicPr/>
          <p:nvPr/>
        </p:nvPicPr>
        <p:blipFill>
          <a:blip r:embed="rId2"/>
          <a:stretch/>
        </p:blipFill>
        <p:spPr>
          <a:xfrm>
            <a:off x="3419640" y="189000"/>
            <a:ext cx="266040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[IS7IR_15]_[PF_01]"/>
          <p:cNvPicPr/>
          <p:nvPr/>
        </p:nvPicPr>
        <p:blipFill>
          <a:blip r:embed="rId3"/>
          <a:stretch/>
        </p:blipFill>
        <p:spPr>
          <a:xfrm>
            <a:off x="6084720" y="0"/>
            <a:ext cx="2213280" cy="4330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[IS7IR_15]_[PF_05]"/>
          <p:cNvPicPr/>
          <p:nvPr/>
        </p:nvPicPr>
        <p:blipFill>
          <a:blip r:embed="rId4"/>
          <a:stretch/>
        </p:blipFill>
        <p:spPr>
          <a:xfrm>
            <a:off x="6012000" y="3246480"/>
            <a:ext cx="2927160" cy="361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[IS7IR_15]_[PF_06]"/>
          <p:cNvPicPr/>
          <p:nvPr/>
        </p:nvPicPr>
        <p:blipFill>
          <a:blip r:embed="rId5"/>
          <a:stretch/>
        </p:blipFill>
        <p:spPr>
          <a:xfrm>
            <a:off x="1403280" y="0"/>
            <a:ext cx="202896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[IS7IR_1-09]_[PD_03-r]"/>
          <p:cNvPicPr/>
          <p:nvPr/>
        </p:nvPicPr>
        <p:blipFill>
          <a:blip r:embed="rId6"/>
          <a:stretch/>
        </p:blipFill>
        <p:spPr>
          <a:xfrm>
            <a:off x="611280" y="3284640"/>
            <a:ext cx="2892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69920" y="476280"/>
            <a:ext cx="87836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– начал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еображенская (Потешная) сер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физического схо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ет решающ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 не умеет обобщ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увидеть в индивидуальном типич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Передразнивание» древней иконной живо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76720" cy="402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00200" cy="377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756400" y="2852640"/>
            <a:ext cx="3232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8680" y="1413000"/>
            <a:ext cx="8596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ван Никитич Никитин (1690-17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«птенцов гнезда Петр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семье священ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лся в Венеции и Фло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Анне Иоанновне приговоре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бессрочной ссылке в Тобо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божден Елизаветой Петр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2854080" cy="37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2873520" cy="378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07512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98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2400" cy="474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438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8-08T23:20:33Z</dcterms:modified>
  <cp:revision>6</cp:revision>
  <dc:subject/>
  <dc:title>PowerPoint Presentation</dc:title>
</cp:coreProperties>
</file>